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235-8B32-44AD-9DB0-73D8A58E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CDE-F5BE-4702-B9C4-FDAB11C0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92C-A893-460F-B60A-78D4D6CD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32E-10E2-4890-8B17-CD9AD92B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DC3-2581-4D1D-B4A4-CB9B9CEE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0D8-2FE9-41EB-A56D-79DAA38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BBD-CEDE-495D-85F6-28F637A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969-B7B4-40AB-B963-73C44A16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23F-4CDF-44FF-98ED-22C1968A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860-62E9-4FFC-A85B-75B12BFE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852-456D-4F50-975D-9E5A3ACA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082-CDE3-4636-B514-F1FF596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78B7-8093-4E1D-9EBD-B82EF46E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МОУ Мирновская СО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бзор учебного плана по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Белоглазова Людмил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Биология 6 клас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Лишай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044880" cy="3044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Биология 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жизне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Биология 8 клас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Человек и его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2549520" cy="324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спехов в изучении мира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Увидимся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7:06:51Z</dcterms:created>
  <dc:creator>User</dc:creator>
  <dc:description/>
  <dc:language>en-US</dc:language>
  <cp:lastModifiedBy>User</cp:lastModifiedBy>
  <dcterms:modified xsi:type="dcterms:W3CDTF">2011-05-30T18:17:05Z</dcterms:modified>
  <cp:revision>6</cp:revision>
  <dc:subject/>
  <dc:title>Слайд 1</dc:title>
</cp:coreProperties>
</file>