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A6B-06A2-4A83-A485-1E11251D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2CF-0A9D-4207-AA4E-A8763F15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7D0-2782-4C7D-9EC0-DE5F7566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83D-07AC-45A7-BD2D-C65253D3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31F-9AB4-49E5-AE73-6BBC176F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831-AF01-4793-8A71-F2E40B98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A62-FC6E-4FAD-A626-8F74D4AC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9AD-F74A-4AC2-B72D-501E364D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8F9-714D-4E5E-825C-F28DA65B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D47-0E14-4B42-A312-00E7C3E7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072-46AA-4A92-B01B-31105A84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7EA-60AD-4379-8E9A-05BF4614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0F37-5143-4EE2-A5E7-71E6F24A2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лан действий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чителя биологии МО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ирновская СО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Белоглазовой Л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Arial"/>
              </a:rPr>
              <a:t>Дальние 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Используя подходы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XXI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века, развивать интерес школьников к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Arial"/>
              </a:rPr>
              <a:t>Дальние 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Использовать личностно-ориентированный подход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Применять 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Мотивировать учащихся к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Педагогические методы и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43927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Ориентироваться на вопросы,которые требуют от учеников умения мысл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анализи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Использовать различные методы для достижения поставленных ц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Трудности и 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ру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Администрация может не поддержать новые подходы в обуч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Родителям методы могут быть непонят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Ученики не захотят работать по нов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Добьюсь поддержки админ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Ознакомлю родителей с методами и формами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Смена состава групп поможет ученикам научиться сотрудни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cc33"/>
                </a:solidFill>
                <a:uFillTx/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00ff"/>
                </a:solidFill>
                <a:uFillTx/>
                <a:latin typeface="Arial"/>
              </a:rPr>
              <a:t>Помощь и поддержка администрации и колл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00ff"/>
                </a:solidFill>
                <a:uFillTx/>
                <a:latin typeface="Arial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00ff"/>
                </a:solidFill>
                <a:uFillTx/>
                <a:latin typeface="Arial"/>
              </a:rPr>
              <a:t>Текстовый редактор,электронные таблицы, мультимед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План-граф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ff"/>
                </a:solidFill>
                <a:uFillTx/>
                <a:latin typeface="Arial"/>
              </a:rPr>
              <a:t>Сентябрь-октя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Формулировка во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Ноябрь-дека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пробирование работы в п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Январь-февр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ереход с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требований к мотив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ff"/>
                </a:solidFill>
                <a:latin typeface="Arial"/>
              </a:rPr>
              <a:t>Апрель-м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нализ полученного опыта и планирование на буду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Желаю успе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6:12:53Z</dcterms:created>
  <dc:creator>User</dc:creator>
  <dc:description/>
  <dc:language>en-US</dc:language>
  <cp:lastModifiedBy>User</cp:lastModifiedBy>
  <dcterms:modified xsi:type="dcterms:W3CDTF">2011-05-31T07:20:19Z</dcterms:modified>
  <cp:revision>5</cp:revision>
  <dc:subject/>
  <dc:title>План действий учителя биологии МОУ Мирновская СОШ</dc:title>
</cp:coreProperties>
</file>