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B8F-3F7A-43C1-A060-17D5D118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F52-B53A-4AD3-85AE-4326E2B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BB6-4BC2-49CD-B0EC-1A8A49FA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425-6C22-4755-A6ED-46D10D66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ECB-D66E-46F7-9F7D-E033DF87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D27-33AA-4302-B37E-0CF3533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0A2-A2DD-42CE-843C-E49466A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F00-4327-4F92-8045-9846D992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DFE-BA7F-4DED-B51C-B7E733F0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A7D-EEEC-427A-BFE9-B4612F6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879-16CF-490F-B0A1-E6FC414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FFA-D81B-4186-A684-16D2AB4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31F-9F8E-4690-84B0-20586156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 пере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вила работы в лаборатор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держивать порядок на рабочем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ять практическую работу после ознакомления с инструкцией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работе соблюдать инстру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завершении работы убрать реактивы и рабоче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7451640" y="551664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070" h="21600">
                <a:moveTo>
                  <a:pt x="140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070" h="21600">
                <a:moveTo>
                  <a:pt x="11459" y="8224"/>
                </a:moveTo>
                <a:lnTo>
                  <a:pt x="15323" y="8224"/>
                </a:lnTo>
                <a:lnTo>
                  <a:pt x="15323" y="15221"/>
                </a:lnTo>
                <a:lnTo>
                  <a:pt x="16611" y="15221"/>
                </a:lnTo>
                <a:lnTo>
                  <a:pt x="16611" y="16144"/>
                </a:lnTo>
                <a:lnTo>
                  <a:pt x="11459" y="16144"/>
                </a:lnTo>
                <a:lnTo>
                  <a:pt x="11459" y="15221"/>
                </a:lnTo>
                <a:lnTo>
                  <a:pt x="12747" y="15221"/>
                </a:lnTo>
                <a:lnTo>
                  <a:pt x="12747" y="9129"/>
                </a:lnTo>
                <a:lnTo>
                  <a:pt x="11459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равила поведения на переме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ЕЛЬЗ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ТОЛК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МУС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ПЕРЕЙТИ В ДРУГОЙ КАБИ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ПОДГОТОВИТЬСЯ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ОТДОХ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3635280" y="566100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3837"/>
                </a:moveTo>
                <a:lnTo>
                  <a:pt x="18194" y="6448"/>
                </a:lnTo>
                <a:lnTo>
                  <a:pt x="18194" y="4707"/>
                </a:lnTo>
                <a:lnTo>
                  <a:pt x="19970" y="4707"/>
                </a:lnTo>
                <a:lnTo>
                  <a:pt x="19970" y="8224"/>
                </a:lnTo>
                <a:lnTo>
                  <a:pt x="22581" y="10800"/>
                </a:lnTo>
                <a:lnTo>
                  <a:pt x="20927" y="10800"/>
                </a:lnTo>
                <a:lnTo>
                  <a:pt x="20927" y="17989"/>
                </a:lnTo>
                <a:lnTo>
                  <a:pt x="10309" y="17989"/>
                </a:lnTo>
                <a:lnTo>
                  <a:pt x="10309" y="10800"/>
                </a:lnTo>
                <a:lnTo>
                  <a:pt x="8655" y="10800"/>
                </a:lnTo>
                <a:close/>
              </a:path>
              <a:path fill="darkenLess" w="31236" h="21600">
                <a:moveTo>
                  <a:pt x="18194" y="6448"/>
                </a:moveTo>
                <a:lnTo>
                  <a:pt x="18194" y="4707"/>
                </a:lnTo>
                <a:lnTo>
                  <a:pt x="19970" y="4707"/>
                </a:lnTo>
                <a:lnTo>
                  <a:pt x="19970" y="8224"/>
                </a:lnTo>
                <a:close/>
              </a:path>
              <a:path fill="darkenLess" w="31236" h="21600">
                <a:moveTo>
                  <a:pt x="14695" y="14299"/>
                </a:moveTo>
                <a:lnTo>
                  <a:pt x="16541" y="14299"/>
                </a:lnTo>
                <a:lnTo>
                  <a:pt x="16541" y="17989"/>
                </a:lnTo>
                <a:lnTo>
                  <a:pt x="20927" y="17989"/>
                </a:lnTo>
                <a:lnTo>
                  <a:pt x="20927" y="10800"/>
                </a:lnTo>
                <a:lnTo>
                  <a:pt x="10309" y="10800"/>
                </a:lnTo>
                <a:lnTo>
                  <a:pt x="10309" y="17989"/>
                </a:lnTo>
                <a:lnTo>
                  <a:pt x="146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АВИЛА РАБОТЫ НА ЭКСКУР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218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ЗАПИСАТЬ ТЕМУ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СТАВИТЬ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ОСТАВИТЬ ПЛАН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ЫПОЛНИТЬ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ФОРМИТЬ ОТ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ОБЛЮДАТЬ ПРАВИЛА ПОВЕДЕНИЯ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3635280" y="4437000"/>
            <a:ext cx="4392720" cy="2016360"/>
          </a:xfrm>
          <a:custGeom>
            <a:avLst/>
            <a:gdLst>
              <a:gd name="textAreaLeft" fmla="*/ 130680 w 4392720"/>
              <a:gd name="textAreaRight" fmla="*/ 4262040 w 4392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47052" h="21600">
                <a:moveTo>
                  <a:pt x="0" y="0"/>
                </a:moveTo>
                <a:lnTo>
                  <a:pt x="47052" y="0"/>
                </a:lnTo>
                <a:lnTo>
                  <a:pt x="47052" y="21600"/>
                </a:lnTo>
                <a:lnTo>
                  <a:pt x="0" y="21600"/>
                </a:lnTo>
                <a:close/>
              </a:path>
              <a:path fill="lightenLess" w="47052" h="21600">
                <a:moveTo>
                  <a:pt x="0" y="0"/>
                </a:moveTo>
                <a:lnTo>
                  <a:pt x="47052" y="0"/>
                </a:lnTo>
                <a:lnTo>
                  <a:pt x="45652" y="1400"/>
                </a:lnTo>
                <a:lnTo>
                  <a:pt x="1400" y="1400"/>
                </a:lnTo>
                <a:close/>
              </a:path>
              <a:path fill="darken" w="47052" h="21600">
                <a:moveTo>
                  <a:pt x="47052" y="0"/>
                </a:moveTo>
                <a:lnTo>
                  <a:pt x="47052" y="21600"/>
                </a:lnTo>
                <a:lnTo>
                  <a:pt x="45652" y="20200"/>
                </a:lnTo>
                <a:lnTo>
                  <a:pt x="45652" y="1400"/>
                </a:lnTo>
                <a:close/>
              </a:path>
              <a:path fill="darkenLess" w="47052" h="21600">
                <a:moveTo>
                  <a:pt x="47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52" y="20200"/>
                </a:lnTo>
                <a:close/>
              </a:path>
              <a:path fill="lighten" w="47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52" h="21600">
                <a:moveTo>
                  <a:pt x="16519" y="8406"/>
                </a:moveTo>
                <a:lnTo>
                  <a:pt x="20950" y="8406"/>
                </a:lnTo>
                <a:lnTo>
                  <a:pt x="25371" y="3794"/>
                </a:lnTo>
                <a:lnTo>
                  <a:pt x="25371" y="17806"/>
                </a:lnTo>
                <a:lnTo>
                  <a:pt x="20950" y="13194"/>
                </a:lnTo>
                <a:lnTo>
                  <a:pt x="16519" y="13194"/>
                </a:lnTo>
                <a:close/>
              </a:path>
              <a:path fill="darken" w="47052" h="21600">
                <a:moveTo>
                  <a:pt x="27025" y="10800"/>
                </a:moveTo>
                <a:lnTo>
                  <a:pt x="30532" y="10800"/>
                </a:lnTo>
              </a:path>
              <a:path fill="darken" w="47052" h="21600">
                <a:moveTo>
                  <a:pt x="27025" y="8406"/>
                </a:moveTo>
                <a:lnTo>
                  <a:pt x="30532" y="5639"/>
                </a:lnTo>
              </a:path>
              <a:path fill="darken" w="47052" h="21600">
                <a:moveTo>
                  <a:pt x="27025" y="13194"/>
                </a:moveTo>
                <a:lnTo>
                  <a:pt x="30532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Ю 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8:51:52Z</dcterms:created>
  <dc:creator>User</dc:creator>
  <dc:description/>
  <dc:language>en-US</dc:language>
  <cp:lastModifiedBy>User</cp:lastModifiedBy>
  <dcterms:modified xsi:type="dcterms:W3CDTF">2011-05-30T19:50:56Z</dcterms:modified>
  <cp:revision>11</cp:revision>
  <dc:subject/>
  <dc:title>Слайд 1</dc:title>
</cp:coreProperties>
</file>